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00850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D7F5B1-2B84-4F99-AFF7-8300B5AB66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4012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77C4AF-58DE-49CD-8FDC-588630063A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9F5659-81DA-4AC2-B09E-036F8724A3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38595F-71DE-4322-91EE-E851AD4AC1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2716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14CF12-7A83-4978-B624-8F5A7CE3A0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84012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5F161C-2FD0-431D-A3E5-787006FAB7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D3D8CA-858D-4867-9BA2-9EE30DF7A7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418D9E-5314-4DD0-B9FA-1D0DFB1362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716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4C42CA-04DC-435F-9859-AD20727EA6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CDF242-DDFA-440B-A22F-89D3DAE42B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0AB4D5-C735-4115-BDB2-C1CC774AC4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227DFF-2378-47B1-B3B6-DBE885B3D7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Click to edit the outline text format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Second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2" marL="1143000" indent="-228600">
              <a:spcBef>
                <a:spcPts val="901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Third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3" marL="1600200" indent="-22860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Fourth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4" marL="2057400" indent="-2286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Fifth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5" marL="2057400" indent="-2286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Sixth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6" marL="2057400" indent="-2286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Seventh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75920" y="6381360"/>
            <a:ext cx="5032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Direction des Systèmes d'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3781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31F58-06F1-4B2F-8C5A-97CD5FEE1E90}" type="slidenum">
              <a:rPr b="0" lang="fr-FR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0" y="1144440"/>
            <a:ext cx="9144000" cy="144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99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8"/>
          <p:cNvSpPr/>
          <p:nvPr/>
        </p:nvSpPr>
        <p:spPr>
          <a:xfrm>
            <a:off x="0" y="1341360"/>
            <a:ext cx="9144000" cy="287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99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9" descr=""/>
          <p:cNvPicPr/>
          <p:nvPr/>
        </p:nvPicPr>
        <p:blipFill>
          <a:blip r:embed="rId2"/>
          <a:stretch/>
        </p:blipFill>
        <p:spPr>
          <a:xfrm>
            <a:off x="0" y="0"/>
            <a:ext cx="5867280" cy="134316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10"/>
          <p:cNvSpPr/>
          <p:nvPr/>
        </p:nvSpPr>
        <p:spPr>
          <a:xfrm>
            <a:off x="0" y="6084720"/>
            <a:ext cx="9144000" cy="15264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100000">
                <a:srgbClr val="d8e8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Click to edit the outline text format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Second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2" marL="1143000" indent="-228600">
              <a:spcBef>
                <a:spcPts val="901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Third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3" marL="1600200" indent="-22860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Fourth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4" marL="2057400" indent="-2286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Fifth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5" marL="2057400" indent="-2286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Sixth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6" marL="2057400" indent="-2286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Seventh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3"/>
          </p:nvPr>
        </p:nvSpPr>
        <p:spPr>
          <a:xfrm>
            <a:off x="5724000" y="6265440"/>
            <a:ext cx="324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D2C16-5ED8-400F-AC87-7ABC90B99571}" type="datetime2">
              <a:rPr b="0" lang="fr-FR" sz="1600" spc="-1" strike="noStrike">
                <a:solidFill>
                  <a:srgbClr val="000000"/>
                </a:solidFill>
                <a:latin typeface="Calibri"/>
              </a:rPr>
              <a:t>vendredi 31 juillet 2026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4"/>
          </p:nvPr>
        </p:nvSpPr>
        <p:spPr>
          <a:xfrm>
            <a:off x="92160" y="6265440"/>
            <a:ext cx="5487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Direction des Systèmes d'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s://mobilite.gard.fr/" TargetMode="External"/><Relationship Id="rId2" Type="http://schemas.openxmlformats.org/officeDocument/2006/relationships/hyperlink" Target="https://mobilite.gard.fr/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s://teletravail.gard.fr/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989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333399"/>
                </a:solidFill>
                <a:latin typeface="Calibri"/>
              </a:rPr>
              <a:t>Colloque 14 Novembre 2018 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Espace réservé du numéro de diapositive 4"/>
          <p:cNvSpPr/>
          <p:nvPr/>
        </p:nvSpPr>
        <p:spPr>
          <a:xfrm>
            <a:off x="6553080" y="63784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97904-452F-4FD0-ACE0-69A6ED385EBC}" type="slidenum">
              <a:rPr b="0" lang="fr-FR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33399"/>
                </a:solidFill>
                <a:latin typeface="Calibri"/>
              </a:rPr>
              <a:t>Mobilité</a:t>
            </a: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Le besoin: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Accéder au système d’information en déplacement ou à domicile (VIP, cadres, astreintes …)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Complémentaire au smartphone (accès aux dossiers de travail, outils…)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Disponibilité du système d’information 7/7, 24/24 (en dehors des horaires de travail)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La solution: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Identique au télétravail via un groupe et une adresse différente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Accessible depuis un portail internet   </a:t>
            </a:r>
            <a:r>
              <a:rPr b="0" lang="fr-FR" sz="1600" spc="-1" strike="noStrike" u="sng">
                <a:solidFill>
                  <a:srgbClr val="009999"/>
                </a:solidFill>
                <a:uFillTx/>
                <a:latin typeface="Georgia"/>
                <a:hlinkClick r:id="rId1"/>
              </a:rPr>
              <a:t>https://mobilite.gard.fr</a:t>
            </a:r>
            <a:r>
              <a:rPr b="0" lang="fr-FR" sz="1600" spc="-1" strike="noStrike" u="sng">
                <a:solidFill>
                  <a:srgbClr val="009999"/>
                </a:solidFill>
                <a:uFillTx/>
                <a:latin typeface="Georgia"/>
                <a:hlinkClick r:id="rId2"/>
              </a:rPr>
              <a:t>/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Axe de réflexion: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Construction d’une charte du droit à la déconnexion (exemple mairie de Paris)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24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Espace réservé du numéro de diapositive 4"/>
          <p:cNvSpPr/>
          <p:nvPr/>
        </p:nvSpPr>
        <p:spPr>
          <a:xfrm>
            <a:off x="6553080" y="63784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EA786-8F1F-4A95-BB79-9B47CB761D90}" type="slidenum">
              <a:rPr b="0" lang="fr-FR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333399"/>
                </a:solidFill>
                <a:latin typeface="Calibri"/>
              </a:rPr>
              <a:t>Missions nouvelles d’accompagnement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50752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333399"/>
                </a:solidFill>
                <a:uFillTx/>
                <a:latin typeface="Georgia"/>
              </a:rPr>
              <a:t>Aujourd’hui :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2 postes de formateur bureautique au sein du service utilisateurs :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Georgia"/>
              </a:rPr>
              <a:t>Formation présentiel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Georgia"/>
              </a:rPr>
              <a:t>Auto forma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333399"/>
                </a:solidFill>
                <a:uFillTx/>
                <a:latin typeface="Georgia"/>
              </a:rPr>
              <a:t>Le besoin: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Projets de dématérialisation + développement des usages numériques =&gt; repenser nos méthodes d’accompagnement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Objectifs :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Georgia"/>
              </a:rPr>
              <a:t>Gagner en efficacité et réactivité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Georgia"/>
              </a:rPr>
              <a:t>Renforcer notre présence auprès des utilisateur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333399"/>
                </a:solidFill>
                <a:uFillTx/>
                <a:latin typeface="Georgia"/>
              </a:rPr>
              <a:t>Evolution envisagée :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formateur bureautique =&gt; chargé d’accompagnement des usages numériques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28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Espace réservé du numéro de diapositive 4"/>
          <p:cNvSpPr/>
          <p:nvPr/>
        </p:nvSpPr>
        <p:spPr>
          <a:xfrm>
            <a:off x="6553080" y="63784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546B5-3BB3-4FEE-B1CF-282322C5788F}" type="slidenum">
              <a:rPr b="0" lang="fr-FR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33399"/>
                </a:solidFill>
                <a:latin typeface="Calibri"/>
              </a:rPr>
              <a:t>Sommaire: </a:t>
            </a: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682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99"/>
                </a:solidFill>
                <a:latin typeface="Georgia"/>
              </a:rPr>
              <a:t>Télétravail</a:t>
            </a: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99"/>
                </a:solidFill>
                <a:latin typeface="Georgia"/>
              </a:rPr>
              <a:t>Mobilité</a:t>
            </a: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99"/>
                </a:solidFill>
                <a:latin typeface="Georgia"/>
              </a:rPr>
              <a:t>Missions nouvelles</a:t>
            </a: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99"/>
                </a:solidFill>
                <a:latin typeface="Georgia"/>
              </a:rPr>
              <a:t>Questions / Réponses</a:t>
            </a: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Espace réservé du numéro de diapositive 4"/>
          <p:cNvSpPr/>
          <p:nvPr/>
        </p:nvSpPr>
        <p:spPr>
          <a:xfrm>
            <a:off x="6553080" y="63784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B4B9C-DA71-43CA-B157-5F31B9C8B9D0}" type="slidenum">
              <a:rPr b="0" lang="fr-FR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33399"/>
                </a:solidFill>
                <a:latin typeface="Calibri"/>
              </a:rPr>
              <a:t>Télétravail – le projet</a:t>
            </a: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Télétravail instauré en 2012 =&gt; télécentres (à ce jour 13 sites)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Périmètre élargi au télétravail à domicile =&gt; règlement présenté en 2017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Un chef de projet nommé (au sein de la DRH)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Phase pilote programmée sur 6 mois (janvier -&gt; juin 2018) = 50 agents avec une priorité pour :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eorgia"/>
              </a:rPr>
              <a:t>Télétravailleurs actuels en télécent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eorgia"/>
              </a:rPr>
              <a:t>Agents en situation de handicap ou confrontés à des problèmes de sant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eorgia"/>
              </a:rPr>
              <a:t>Agents souhaitant expérimenter le télétravai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Communication sur Intranet avec la publication du guide du télétravail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91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Espace réservé du numéro de diapositive 4"/>
          <p:cNvSpPr/>
          <p:nvPr/>
        </p:nvSpPr>
        <p:spPr>
          <a:xfrm>
            <a:off x="6553080" y="63784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024B5-3F6F-4960-B00C-CDBEBE3FA77A}" type="slidenum">
              <a:rPr b="0" lang="fr-FR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33399"/>
                </a:solidFill>
                <a:latin typeface="Calibri"/>
              </a:rPr>
              <a:t>Télétravail – le dispositif</a:t>
            </a: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Demande volontaire de l’agent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Avis de la hiérarchie et décision au niveau du DGA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Préparation et diffusion d’un arrêté individuel de télétravail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Equipement fourni par la collectivité + Indemnité 3€/jour télétravaillé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Une journée de formation obligatoire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95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Espace réservé du numéro de diapositive 4"/>
          <p:cNvSpPr/>
          <p:nvPr/>
        </p:nvSpPr>
        <p:spPr>
          <a:xfrm>
            <a:off x="6553080" y="63784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1CE38-50BE-4382-A642-C17F77690602}" type="slidenum">
              <a:rPr b="0" lang="fr-FR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33399"/>
                </a:solidFill>
                <a:latin typeface="Calibri"/>
              </a:rPr>
              <a:t>Télétravail </a:t>
            </a: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99"/>
                </a:solidFill>
                <a:latin typeface="Georgia"/>
              </a:rPr>
              <a:t>La solution retenue:</a:t>
            </a: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Accessible depuis un portail internet   </a:t>
            </a:r>
            <a:r>
              <a:rPr b="0" lang="fr-FR" sz="1600" spc="-1" strike="noStrike" u="sng">
                <a:solidFill>
                  <a:srgbClr val="009999"/>
                </a:solidFill>
                <a:uFillTx/>
                <a:latin typeface="Georgia"/>
                <a:hlinkClick r:id="rId1"/>
              </a:rPr>
              <a:t>https://teletravail.gard.fr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Indépendant du matériel (Firefox Préconisé)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Fonctionnalité  « Etat du service » intégré 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Un bureau virtuel pour chaque télétravailleur (Citrix)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Connexion automatiquement en mode télétravail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99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Image 1" descr=""/>
          <p:cNvPicPr/>
          <p:nvPr/>
        </p:nvPicPr>
        <p:blipFill>
          <a:blip r:embed="rId2"/>
          <a:stretch/>
        </p:blipFill>
        <p:spPr>
          <a:xfrm>
            <a:off x="6446880" y="1371600"/>
            <a:ext cx="2424240" cy="3182760"/>
          </a:xfrm>
          <a:prstGeom prst="rect">
            <a:avLst/>
          </a:prstGeom>
          <a:ln w="0">
            <a:noFill/>
          </a:ln>
        </p:spPr>
      </p:pic>
      <p:pic>
        <p:nvPicPr>
          <p:cNvPr id="101" name="Image 6" descr=""/>
          <p:cNvPicPr/>
          <p:nvPr/>
        </p:nvPicPr>
        <p:blipFill>
          <a:blip r:embed="rId3"/>
          <a:stretch/>
        </p:blipFill>
        <p:spPr>
          <a:xfrm>
            <a:off x="428760" y="3598920"/>
            <a:ext cx="6159240" cy="26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Espace réservé du numéro de diapositive 4"/>
          <p:cNvSpPr/>
          <p:nvPr/>
        </p:nvSpPr>
        <p:spPr>
          <a:xfrm>
            <a:off x="6553080" y="63784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6F10C-89C5-4863-8F5E-B610A0B11B17}" type="slidenum">
              <a:rPr b="0" lang="fr-FR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33399"/>
                </a:solidFill>
                <a:latin typeface="Calibri"/>
              </a:rPr>
              <a:t>Télétravail </a:t>
            </a: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99"/>
                </a:solidFill>
                <a:latin typeface="Georgia"/>
              </a:rPr>
              <a:t>Le matériel:</a:t>
            </a: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Un équipement informatique fournit par le département (pas de téléphonie)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Un même ordinateur pour 2 usages (ordinateur portable en remplacement du pc fixe)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Transfert des donnés utilisateurs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Avant </a:t>
            </a: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	</a:t>
            </a: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                             Après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(Bureau)                                (Bureau/Maison)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05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Image 5" descr=""/>
          <p:cNvPicPr/>
          <p:nvPr/>
        </p:nvPicPr>
        <p:blipFill>
          <a:blip r:embed="rId1"/>
          <a:stretch/>
        </p:blipFill>
        <p:spPr>
          <a:xfrm>
            <a:off x="4187880" y="3630600"/>
            <a:ext cx="2541600" cy="2541600"/>
          </a:xfrm>
          <a:prstGeom prst="rect">
            <a:avLst/>
          </a:prstGeom>
          <a:ln w="0">
            <a:noFill/>
          </a:ln>
        </p:spPr>
      </p:pic>
      <p:pic>
        <p:nvPicPr>
          <p:cNvPr id="107" name="Image 9" descr=""/>
          <p:cNvPicPr/>
          <p:nvPr/>
        </p:nvPicPr>
        <p:blipFill>
          <a:blip r:embed="rId2"/>
          <a:stretch/>
        </p:blipFill>
        <p:spPr>
          <a:xfrm>
            <a:off x="2400480" y="4605480"/>
            <a:ext cx="1563480" cy="782640"/>
          </a:xfrm>
          <a:prstGeom prst="rect">
            <a:avLst/>
          </a:prstGeom>
          <a:ln w="0">
            <a:noFill/>
          </a:ln>
        </p:spPr>
      </p:pic>
      <p:pic>
        <p:nvPicPr>
          <p:cNvPr id="108" name="Image 11" descr=""/>
          <p:cNvPicPr/>
          <p:nvPr/>
        </p:nvPicPr>
        <p:blipFill>
          <a:blip r:embed="rId3"/>
          <a:stretch/>
        </p:blipFill>
        <p:spPr>
          <a:xfrm>
            <a:off x="-237960" y="4076640"/>
            <a:ext cx="2530440" cy="15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Espace réservé du numéro de diapositive 4"/>
          <p:cNvSpPr/>
          <p:nvPr/>
        </p:nvSpPr>
        <p:spPr>
          <a:xfrm>
            <a:off x="6553080" y="63784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6D52A-3605-4331-B7C4-E2DDF8B6479B}" type="slidenum">
              <a:rPr b="0" lang="fr-FR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33399"/>
                </a:solidFill>
                <a:latin typeface="Calibri"/>
              </a:rPr>
              <a:t>Télétravail – l’accompagnement</a:t>
            </a: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2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333399"/>
                </a:solidFill>
                <a:uFillTx/>
                <a:latin typeface="Georgia"/>
              </a:rPr>
              <a:t>Pour les agents bénéficiant du télétravail </a:t>
            </a:r>
            <a:endParaRPr b="0" lang="en-US" sz="24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Livraison de l’équipement : 1 technicien informatique + 1 formatrice 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1 journée de formation obligatoire - 4 points principaux abordés :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eorgia"/>
              </a:rPr>
              <a:t>Présentation du proj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eorgia"/>
              </a:rPr>
              <a:t>Accès au système d’inform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eorgia"/>
              </a:rPr>
              <a:t>Risques psychosociaux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eorgia"/>
              </a:rPr>
              <a:t>Ergonomie du poste de travai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5 sessions comprenant 10 participants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Assistance informatique :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eorgia"/>
              </a:rPr>
              <a:t>Problème accès Internet =&gt; se rapprocher de son fournisseu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eorgia"/>
              </a:rPr>
              <a:t>Problème une fois connecté dans la plateforme télétravail =&gt; solliciter le support via notre solution de saisie des incidents ou au 526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=&gt; 40 tickets + 40 contacts téléphoniques 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12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Espace réservé du numéro de diapositive 4"/>
          <p:cNvSpPr/>
          <p:nvPr/>
        </p:nvSpPr>
        <p:spPr>
          <a:xfrm>
            <a:off x="6553080" y="63784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762C6-5886-465D-B177-2D4E26424FA9}" type="slidenum">
              <a:rPr b="0" lang="fr-FR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33399"/>
                </a:solidFill>
                <a:latin typeface="Calibri"/>
              </a:rPr>
              <a:t>Télétravail – l’accompagnement</a:t>
            </a: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333399"/>
                </a:solidFill>
                <a:uFillTx/>
                <a:latin typeface="Georgia"/>
              </a:rPr>
              <a:t>Pour les encadrants : </a:t>
            </a:r>
            <a:endParaRPr b="0" lang="en-US" sz="24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½ journée de formation facultative =&gt; objectif : préparer les encadrants à la pratique de cette nouvelle organisation du travail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4 points évoqués :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eorgia"/>
              </a:rPr>
              <a:t>Le cadre et les enjeux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eorgia"/>
              </a:rPr>
              <a:t>Les conditions de réussite du télétravail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eorgia"/>
              </a:rPr>
              <a:t>La gestion de l’activité et des temps de télétravail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eorgia"/>
              </a:rPr>
              <a:t>Clôture – débat « opportunité pour réinterroger son mode de management 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1 session avec 6 participants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référent télétravail pour répondre aux questions pratiques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16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Espace réservé du numéro de diapositive 4"/>
          <p:cNvSpPr/>
          <p:nvPr/>
        </p:nvSpPr>
        <p:spPr>
          <a:xfrm>
            <a:off x="6553080" y="63784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1E439-C0F7-4066-8E4B-0D4DBE78D6EC}" type="slidenum">
              <a:rPr b="0" lang="fr-FR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33399"/>
                </a:solidFill>
                <a:latin typeface="Calibri"/>
              </a:rPr>
              <a:t>Télétravail</a:t>
            </a: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Bilan: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Réalisation d’une enquête de satisfaction (agents et encadrants)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40 réponses sur 50 télétravailleurs ( retour positif sur le matériel et la journée formation)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Poursuite de l’expérimentation sur 2019 (dossiers déjà en attente)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Difficultés concernant l’adaptation des postes au domicile (téléphonie, RQTH..)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Organisation et remplacement du poste chronophage (3h/agent)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Complexité du support informatique à domicile (problématique de connexion)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Formation des encadrants en amont pour accompagner les agents (droits et devoirs)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Politique d’équipement matériel, utilisation du matériel personnel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20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09T08:24:03Z</dcterms:created>
  <dc:creator>debos_b</dc:creator>
  <dc:description/>
  <dc:language>en-US</dc:language>
  <cp:lastModifiedBy>blachere_k</cp:lastModifiedBy>
  <dcterms:modified xsi:type="dcterms:W3CDTF">2018-11-13T15:20:18Z</dcterms:modified>
  <cp:revision>95</cp:revision>
  <dc:subject/>
  <dc:title>Organisation DSI</dc:title>
</cp:coreProperties>
</file>