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2F1E0-E1DD-4499-8B22-9AA135E4C2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054FE-DC0F-4B48-89AE-522F8A95CC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75C81-9211-4DDD-8782-F827A17BCE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80016-5AFD-48FC-8655-EF01AEB2EB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2716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191F0-19D1-46B5-B920-BD51FD3D21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E1211-2617-4C80-B42B-C5107D449B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E44E5-A763-40F6-B8E5-D8D12D4D28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01633-3524-4046-B34B-F7A66587F5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716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6F9AB-443B-4A12-B6EE-8B73379B69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76D98-34C2-40B5-BC05-CFEEA65A2D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75E20-E2BE-4793-938B-F6CF14B4D6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2594B-87A5-4BBC-891B-3672BA8CFB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5920" y="6381360"/>
            <a:ext cx="5032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Direction des Systèmes d'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781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641FA-6470-4F4D-A552-BB0F97AC3666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0" y="1144440"/>
            <a:ext cx="9144000" cy="14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1341360"/>
            <a:ext cx="9144000" cy="28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9" descr=""/>
          <p:cNvPicPr/>
          <p:nvPr/>
        </p:nvPicPr>
        <p:blipFill>
          <a:blip r:embed="rId2"/>
          <a:stretch/>
        </p:blipFill>
        <p:spPr>
          <a:xfrm>
            <a:off x="0" y="0"/>
            <a:ext cx="5867280" cy="13431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0"/>
          <p:cNvSpPr/>
          <p:nvPr/>
        </p:nvSpPr>
        <p:spPr>
          <a:xfrm>
            <a:off x="0" y="6084720"/>
            <a:ext cx="9144000" cy="15264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d8e8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5724000" y="6265440"/>
            <a:ext cx="324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6F236-0985-436F-8665-DB4DDF09FBE4}" type="datetime2">
              <a:rPr b="0" lang="fr-FR" sz="1600" spc="-1" strike="noStrike">
                <a:solidFill>
                  <a:srgbClr val="000000"/>
                </a:solidFill>
                <a:latin typeface="Calibri"/>
              </a:rPr>
              <a:t>mardi 28 juillet 20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92160" y="6265440"/>
            <a:ext cx="5487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Direction des Systèmes d'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mobilite.gard.fr/" TargetMode="External"/><Relationship Id="rId2" Type="http://schemas.openxmlformats.org/officeDocument/2006/relationships/hyperlink" Target="https://mobilite.gard.fr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teletravail.gard.fr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3399"/>
                </a:solidFill>
                <a:latin typeface="Calibri"/>
              </a:rPr>
              <a:t>Colloque 14 Novembre 2018 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558D-D82B-477E-92F4-B291F6B9434E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Mobilité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Le besoin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Accéder au système d’information en déplacement ou à domicile (VIP, cadres, astreintes …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Complémentaire au smartphone (accès aux dossiers de travail, outils…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Disponibilité du système d’information 7/7, 24/24 (en dehors des horaires de travail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La solution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Identique au télétravail via un groupe et une adresse différente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Accessible depuis un portail internet   </a:t>
            </a:r>
            <a:r>
              <a:rPr b="0" lang="fr-FR" sz="1600" spc="-1" strike="noStrike" u="sng">
                <a:solidFill>
                  <a:srgbClr val="009999"/>
                </a:solidFill>
                <a:uFillTx/>
                <a:latin typeface="Georgia"/>
                <a:hlinkClick r:id="rId1"/>
              </a:rPr>
              <a:t>https://mobilite.gard.fr</a:t>
            </a:r>
            <a:r>
              <a:rPr b="0" lang="fr-FR" sz="1600" spc="-1" strike="noStrike" u="sng">
                <a:solidFill>
                  <a:srgbClr val="009999"/>
                </a:solidFill>
                <a:uFillTx/>
                <a:latin typeface="Georgia"/>
                <a:hlinkClick r:id="rId2"/>
              </a:rPr>
              <a:t>/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Axe de réflexion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Construction d’une charte du droit à la déconnexion (exemple mairie de Paris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98CB8-6350-4F23-BF6B-8307E64D44F4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Calibri"/>
              </a:rPr>
              <a:t>Missions nouvelles d’accompagnement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5075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333399"/>
                </a:solidFill>
                <a:uFillTx/>
                <a:latin typeface="Georgia"/>
              </a:rPr>
              <a:t>Aujourd’hui 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2 postes de formateur bureautique au sein du service utilisateurs 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Formation présentie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Auto form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333399"/>
                </a:solidFill>
                <a:uFillTx/>
                <a:latin typeface="Georgia"/>
              </a:rPr>
              <a:t>Le besoin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Projets de dématérialisation + développement des usages numériques =&gt; repenser nos méthodes d’accompagnement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Objectifs 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Gagner en efficacité et réactivit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Renforcer notre présence auprès des utilisateu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333399"/>
                </a:solidFill>
                <a:uFillTx/>
                <a:latin typeface="Georgia"/>
              </a:rPr>
              <a:t>Evolution envisagée 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formateur bureautique =&gt; chargé d’accompagnement des usages numériques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8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6301-43CE-4F16-83A9-410194B2CE06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Sommaire: 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68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Télétravail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Mobilité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Missions nouvelles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Questions / Réponses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91820-F33B-447A-BDB1-9A423ADEC8FA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– le proje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Télétravail instauré en 2012 =&gt; télécentres (à ce jour 13 sites)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Périmètre élargi au télétravail à domicile =&gt; règlement présenté en 2017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Un chef de projet nommé (au sein de la DRH)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Phase pilote programmée sur 6 mois (janvier -&gt; juin 2018) = 50 agents avec une priorité pour 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Télétravailleurs actuels en télécent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Agents en situation de handicap ou confrontés à des problèmes de san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Agents souhaitant expérimenter le télétrava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Communication sur Intranet avec la publication du guide du télétravail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27877-B46E-4724-B9EE-C87B43934748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– le dispositif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Demande volontaire de l’agent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Avis de la hiérarchie et décision au niveau du DGA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Préparation et diffusion d’un arrêté individuel de télétravail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Equipement fourni par la collectivité + Indemnité 3€/jour télétravaillé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Une journée de formation obligatoire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5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125F7-2A4E-4F11-AF6D-A9EECEF6958C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La solution retenue: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Accessible depuis un portail internet   </a:t>
            </a:r>
            <a:r>
              <a:rPr b="0" lang="fr-FR" sz="1600" spc="-1" strike="noStrike" u="sng">
                <a:solidFill>
                  <a:srgbClr val="009999"/>
                </a:solidFill>
                <a:uFillTx/>
                <a:latin typeface="Georgia"/>
                <a:hlinkClick r:id="rId1"/>
              </a:rPr>
              <a:t>https://teletravail.gard.fr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Indépendant du matériel (Firefox Préconisé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Fonctionnalité  « Etat du service » intégré 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Un bureau virtuel pour chaque télétravailleur (Citrix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Connexion automatiquement en mode télétravail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Image 1" descr=""/>
          <p:cNvPicPr/>
          <p:nvPr/>
        </p:nvPicPr>
        <p:blipFill>
          <a:blip r:embed="rId2"/>
          <a:stretch/>
        </p:blipFill>
        <p:spPr>
          <a:xfrm>
            <a:off x="6446880" y="1371600"/>
            <a:ext cx="2424240" cy="3182760"/>
          </a:xfrm>
          <a:prstGeom prst="rect">
            <a:avLst/>
          </a:prstGeom>
          <a:ln w="0">
            <a:noFill/>
          </a:ln>
        </p:spPr>
      </p:pic>
      <p:pic>
        <p:nvPicPr>
          <p:cNvPr id="101" name="Image 6" descr=""/>
          <p:cNvPicPr/>
          <p:nvPr/>
        </p:nvPicPr>
        <p:blipFill>
          <a:blip r:embed="rId3"/>
          <a:stretch/>
        </p:blipFill>
        <p:spPr>
          <a:xfrm>
            <a:off x="428760" y="3598920"/>
            <a:ext cx="615924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38CF0-0943-4569-80F3-5EF7E56E4972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Le matériel: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Un équipement informatique fournit par le département (pas de téléphonie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Un même ordinateur pour 2 usages (ordinateur portable en remplacement du pc fixe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Transfert des donnés utilisateurs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Avant </a:t>
            </a: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	</a:t>
            </a: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                             Après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(Bureau)                                (Bureau/Maison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Image 5" descr=""/>
          <p:cNvPicPr/>
          <p:nvPr/>
        </p:nvPicPr>
        <p:blipFill>
          <a:blip r:embed="rId1"/>
          <a:stretch/>
        </p:blipFill>
        <p:spPr>
          <a:xfrm>
            <a:off x="4187880" y="3630600"/>
            <a:ext cx="2541600" cy="2541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9" descr=""/>
          <p:cNvPicPr/>
          <p:nvPr/>
        </p:nvPicPr>
        <p:blipFill>
          <a:blip r:embed="rId2"/>
          <a:stretch/>
        </p:blipFill>
        <p:spPr>
          <a:xfrm>
            <a:off x="2400480" y="4605480"/>
            <a:ext cx="1563480" cy="782640"/>
          </a:xfrm>
          <a:prstGeom prst="rect">
            <a:avLst/>
          </a:prstGeom>
          <a:ln w="0">
            <a:noFill/>
          </a:ln>
        </p:spPr>
      </p:pic>
      <p:pic>
        <p:nvPicPr>
          <p:cNvPr id="108" name="Image 11" descr=""/>
          <p:cNvPicPr/>
          <p:nvPr/>
        </p:nvPicPr>
        <p:blipFill>
          <a:blip r:embed="rId3"/>
          <a:stretch/>
        </p:blipFill>
        <p:spPr>
          <a:xfrm>
            <a:off x="-237960" y="4076640"/>
            <a:ext cx="253044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E7108-3EF7-4938-A1E8-F74EA8368EC7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– l’accompagnemen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333399"/>
                </a:solidFill>
                <a:uFillTx/>
                <a:latin typeface="Georgia"/>
              </a:rPr>
              <a:t>Pour les agents bénéficiant du télétravail </a:t>
            </a:r>
            <a:endParaRPr b="0" lang="en-US" sz="24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Livraison de l’équipement : 1 technicien informatique + 1 formatrice 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1 journée de formation obligatoire - 4 points principaux abordés 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Présentation du proj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Accès au système d’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Risques psychosociau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Ergonomie du poste de trava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5 sessions comprenant 10 participants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Assistance informatique 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Problème accès Internet =&gt; se rapprocher de son fournisse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Problème une fois connecté dans la plateforme télétravail =&gt; solliciter le support via notre solution de saisie des incidents ou au 526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=&gt; 40 tickets + 40 contacts téléphoniques 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AD2D9-5D07-4A75-9C96-A0D728FFA2C9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– l’accompagnemen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333399"/>
                </a:solidFill>
                <a:uFillTx/>
                <a:latin typeface="Georgia"/>
              </a:rPr>
              <a:t>Pour les encadrants : </a:t>
            </a:r>
            <a:endParaRPr b="0" lang="en-US" sz="24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½ journée de formation facultative =&gt; objectif : préparer les encadrants à la pratique de cette nouvelle organisation du travail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4 points évoqués 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Le cadre et les enjeu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Les conditions de réussite du télétravai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La gestion de l’activité et des temps de télétravai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Clôture – débat « opportunité pour réinterroger son mode de management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1 session avec 6 participants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référent télétravail pour répondre aux questions pratiques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48B25-1353-487C-81DC-7726912BB2C4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Bilan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Réalisation d’une enquête de satisfaction (agents et encadrants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40 réponses sur 50 télétravailleurs ( retour positif sur le matériel et la journée formation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Poursuite de l’expérimentation sur 2019 (dossiers déjà en attente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Difficultés concernant l’adaptation des postes au domicile (téléphonie, RQTH..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Organisation et remplacement du poste chronophage (3h/agent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Complexité du support informatique à domicile (problématique de connexion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Formation des encadrants en amont pour accompagner les agents (droits et devoirs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Politique d’équipement matériel, utilisation du matériel personnel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9T08:24:03Z</dcterms:created>
  <dc:creator>debos_b</dc:creator>
  <dc:description/>
  <dc:language>en-US</dc:language>
  <cp:lastModifiedBy>blachere_k</cp:lastModifiedBy>
  <dcterms:modified xsi:type="dcterms:W3CDTF">2018-11-13T15:20:18Z</dcterms:modified>
  <cp:revision>95</cp:revision>
  <dc:subject/>
  <dc:title>Organisation DSI</dc:title>
</cp:coreProperties>
</file>